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3F9-6ECC-48F5-B265-A53A279C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DCD-DAC0-4713-A5DF-DD22A655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9D8E6-8A26-4085-ABC7-AE3E735E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A1864-2F3F-45CD-8ADA-BE64D36C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A2F0E-BF86-47D4-B0EB-802CF737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791CC-4988-4017-8AD9-29771EF5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93B3F-55AD-4AD3-8643-05624CE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BC14C-55EF-4022-B3AD-895E42B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3E13B-B646-4FEC-8B4E-FF9C4C62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55E6E-EAFC-4EF0-A810-6256CDE4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17880-0A21-42FE-B25F-3EE2159C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B4F14-251A-4326-AC6A-E33090FA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147-D843-4335-BEEC-CA8FD50C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7E4A7-645A-42B7-A56E-5EBADEFD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8FB9C-B057-4EC9-B994-5E3B7A87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0D031-EC2B-4DED-AA87-61B8C2C5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3B335-1D6E-4C76-A01D-37073CC1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380BC-4658-4714-85D6-D6D2552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79C46-902B-495C-B1E7-FBF4E29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EB0D9-321C-4923-A204-ADC9128B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F163A-61FD-4AA8-AABC-3AE757F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BD1D3-4F5C-48BB-A0CF-155F6711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22E81-BAB8-4C24-A419-E3C27AB4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F72-114C-48E4-97BB-403C665E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46929-D090-4D9C-B3C4-9B808B0C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C17BB-127B-4838-829F-7E492117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293A6-7B3F-4540-A6EB-47FE4F1D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EF5A9-5B8E-496B-9854-56C6C8E9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898E-419F-44FD-8C61-DC7EF7C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11A7C-8F8C-4C21-89A3-29AC0438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EC6C1-142D-4132-898D-0CABA81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10DFA-D6DF-4BC2-BADF-D781D666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8C048-AE73-4BC3-BCA1-C92B990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36980-C3D2-4D2E-B432-DA9DFCF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2F87-6745-4900-8FA9-B800862B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A6D45-8BB2-46F9-9C61-EDBE2F96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5833-3DC9-4CF0-B5CF-760C1CCF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8FA09-810D-4AAD-B8F4-14A90C17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EB9F4-F700-40E2-B36A-379C1201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C4511-D9B5-442C-A596-FFD5D020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03EC9-36CC-4624-B38B-DF9BD47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C480F-2691-4794-963C-E598A55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0320A-4E2B-4E8D-BAAE-14ABD8C5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EB9BA-4C5A-4DFB-BCA7-DB9D0EB7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9738A-3FD4-4242-AF36-E202E092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C4A4-E645-4994-8ABD-08CC59BD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D5C52-DD30-4668-814B-397E062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01ACB-EA66-4CA7-88F0-8080CDE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07994-A849-4D72-AB72-187C245C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8E2C0-FAC6-4636-A3F2-FFFC05FD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79DA5-9779-4CFB-AFB8-4CBABF8C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AF071-7BD4-41D4-98B3-56BFD310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D6BF8-9B9E-4278-96A5-8E9BDDC1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B5C87-0F19-4555-A453-D2F2673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4E328-3D05-4953-9A4A-B9C53C56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24345-759A-4F4B-A350-A178913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EE61-93CE-45A9-937F-14C9D1C6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8CCB5-1BAE-4370-8B74-1535ACD9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15160-59E2-43F3-91D5-2D70AB7A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46806-F419-41CA-9CE8-90D2E22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49BF3-63B5-4E82-A637-F44BD412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6488F-DF53-4861-B6F6-8F17681A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B3B8B-D8F6-4EB1-917D-E31698C7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987FE-6145-4089-8A74-9435E1B3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EB00C7-8F8A-46C8-B39A-B6E1AC32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CF1239-DE58-4DBB-9D46-82A81D45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982279-E211-4B3C-B76A-074AB868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690C-DAA7-4413-87EA-38CD0585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C00EE9-DE3D-4A4F-B8BE-95CA3796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CA71E6-45DE-477E-BE3F-B6CCD323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659F68-6DDB-48E0-88D3-92726C84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6C9BDB-C676-47B6-B9E2-87B4091A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17D246-C114-4F88-A7C9-D6C3FD5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EAB0F8-76F0-48CD-8FE1-4EEF578E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DBE4A0-0A7E-4E14-BC2B-E7DB0922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331E94-AC34-4AFC-844F-0FBCA3FD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ABEBD9-9BF3-4E3F-A297-3272405A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0FC337-CEE7-4822-BE26-041D8F8F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93F9-5AD1-4A36-9B61-250B11D7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2BC286-ECEA-4196-AB5E-A20C9E78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5715E6-4309-40CF-A0CF-5F869F7B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8AB7CA-531D-45D7-ADFF-F634B889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7694FB-99E6-4CD9-AF68-926569A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F6E192-1F51-4D56-9EE8-C858F7F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4E3B4F-D305-42FA-A163-D87087C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95A334-1E29-4FF8-ACB8-4BDC18AB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887348-33D7-4679-8905-63A0BA6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AAC241-446D-45A6-A7C6-644D23A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684F5C-4074-4432-BC69-FE4B74AB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143F-DD9D-41DC-AF06-083C4A9E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2C2C74-3969-42D5-B833-6E0BA61C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C59168-7490-4026-9707-4FFE5027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DCD738-5DC5-4866-85C5-443272C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D274FC-FE8C-4FC1-9FA8-0BBBFFD7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1E17C4-779B-4A7E-B67D-68249BE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A5AC01-C6CA-4487-A4E5-7B9B23F9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2CBBE3-614D-41F6-B183-E8182288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6C8BD7-67C0-4C8B-A7C5-5F38A3D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452DD2-9C2E-485C-B1DC-7D1F5CEE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67665E-0EA3-4BAC-A85D-5B18C9B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098D-4017-445A-B0D6-7CE7951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7FDC57-8486-42DD-9143-2E14265E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DAA76D-DF71-44E4-9D96-BDA9E665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A7250E-516C-4C5C-BA19-64A8B51C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44F93-2F19-4B78-BD34-74B3870F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3ECC80-8E20-4C3C-9955-5F4815AB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23112-04F5-4408-903D-1A5F28E1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80D1D-C95F-4D2A-83DA-DBEF6B70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5B22C-C44A-4E86-920A-D6C0B06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5A127-14A2-41B0-B0EC-DC7D5B61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6F0B42-C3D7-4BD4-AA55-9007A60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2E9-244B-40FE-B3FB-FE6E5623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1A70-2563-4A0A-81B8-6DB7F576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7BF53-7FCE-4C0A-B1A5-85432DF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DBF8E-7250-49E1-BC55-CC49C87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FFAEE-B1EA-4646-9117-5C0A2DF8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1A3AA-DEC1-4BBB-80CC-12FC9150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852F9-4203-4001-A8AE-3209C1B2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0A9E37-F888-4FBC-B179-F1BB135C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5C1D78-2E77-4753-A44C-2E837BB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C25374-9D83-44E0-8E36-001029AC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A23A4C-47E6-4D73-A103-FB45113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E0E8CA-96BF-4292-81E2-6E6AF87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C303-853F-40E2-A073-6597F67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4F1651-4696-452F-B516-D5E7397D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3EAFEB-7FF1-4C2C-AF69-680B57D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B5C177-7C2A-417F-BFA9-D6B5141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7E2800-7A27-463D-AA75-BC890410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BFB28D-1001-4449-8FAC-FDED6AC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2695BD-272A-4574-9DB1-A4362C6A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204B8E-E7DF-4EC5-A950-EF2076B2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579A5-B5C3-44FF-B6B7-4EB44710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1263E-4AF0-46C7-A399-9DDBF6B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428B3-F1DB-41A9-AC7D-683E3D8E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B08B-F380-4D20-8973-A018B540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35035-6F95-4D05-ABD8-AF62A5B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2F8D1-7A05-4AF7-A57D-2B33F459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2167C-EBA0-4A14-927B-65254D91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AC886-3397-4234-957D-FCE99BCF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CD856-FBE6-4719-ADF2-7ABABAFF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9860F-5167-4FE8-B1E9-669B40E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C4DB6-DE6C-43E8-833A-39048E1B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46DBB-69C7-4453-AA0E-C33E7F4E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347CB-BD65-48C1-B6EE-6EDA52C3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1C4B6-531B-4949-81BB-E0C60AA9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01A6-5BEE-49D9-8673-D7DCBD94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5C08F-6969-421C-9480-C4C67D28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62C91-986C-4D46-BCF0-9CE04157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913C1-7409-4FC7-8853-CA169DB9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5EB3D-7333-470B-B4C7-BF981487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1976A-6C77-4CFF-B389-6519C444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7E8974-566A-4316-8C80-5C49FE7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E46E2-AF22-4A16-B696-F761261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79CE4-4386-4A19-A5B5-7BB6F77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BEF23-90B7-4DB4-829A-A488C7A4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CF161B-A508-48FE-A736-E6C886D0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8D5F-CEA3-4309-BE0D-AA6BA16B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084FD2-267F-4DDA-9818-F092995C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D7413-095A-4FA2-8982-387FEC9F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2254A-0E1C-4525-9718-A3BA0E4E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39F79-C29B-4954-99B5-A74259CF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EA812-D9D3-4FF9-8E45-BEED7AC9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F7AF2-44B2-4E79-9842-E3C324FB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AEF289-8767-40B2-940F-8A0EEF4F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CBAE9-F595-43E8-97BC-1E9B5B7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7BFEE-3B9B-4FB6-B943-849BE913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97D27D-9FDE-42B1-B582-84D290E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1E24-A83B-4051-9AE6-87BAF497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DA89C-C2D0-428D-9969-5E1AB404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B66DE-8679-4BC1-8836-EC059555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BE662-0095-4C11-9806-651156BD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C2B81-A077-46D8-A596-0B840555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FDE7E3-0DB8-4DF0-A58E-53651C8D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38D2B-F8ED-41B0-A136-C79D853A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1B811F-7EF1-4DCC-8580-F7ED5728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42A15C-B7C0-41B0-A4ED-7D556F9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7D4E86-4FA7-46E3-8EA2-82C971AA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FA23C1-92E5-4DB8-AD7C-EBC46D1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729F-8F0C-4907-BA2B-1CABD24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84299-EF7C-4F16-BA65-96FC296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AF14B6-F64E-40FF-AB21-881DCBC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7EC342-A8F8-4A3B-90D1-A18C8614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48F34D-23B6-447A-9F6D-1C9D8FE0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8E099-A68A-430D-B4E1-0892D56E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71765-8C96-43D9-ACC5-A69AEE58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D7FB74-8E1E-4717-BADE-2EDFC9ED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CD7E8-2948-4054-B7C0-F7004CA2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544181-4829-4614-A83B-9063704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EB6244-40FF-47C2-B78E-02F11111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FBAC-4A09-4FAE-80D5-2FDC17D1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799CA7-A8D6-44D6-9807-0B6FB527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F1998-A32A-4E9C-8027-34B23F0C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700E2-165E-432E-88DD-2B75A30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BF2BC3-43A9-429A-9029-D3BD60E4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12842-8D36-4305-ADA6-2E96562D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BFE8D0-62BF-4649-9F57-95216B68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E42541-6095-4BC7-BD27-9FE6AFF6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161250-967A-4ADD-94E6-F5831D63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CC884B-7D32-490C-8452-A52D3793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4D57F4-1E17-4ABF-9D07-478A3694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3E7C-9481-43C8-893D-DB5EA039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A8380B-76B9-4B37-AD43-C26BD151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1ED22C-863F-4D2C-A63B-EC14446F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63F7CB-E12A-46A1-88FF-2EDB2E3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19F47D-9203-4AA9-8A39-0B14B7E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1E5019-D420-4BA1-9AE7-417DF2E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447181-C914-412A-91B2-6370B75D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C18747-315E-4E36-BFFE-9124536B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0A6C7C-55C3-4BC9-B5AD-146890E4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DF81ED-D1D1-4984-A88D-104D17BF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202AD8-3B36-4941-82FD-B916F010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C495-47DE-4B1C-8CD1-8F6396E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9FE5A7-7918-4F7F-981A-4292A7F1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5FE9F9-B8BA-4B79-A91C-0DB632C4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0D9D52-4691-4F4C-9E4D-3050CFB3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F31984-8DB1-418F-A1C7-9DA45294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24B5F9-4B1F-4192-9A9C-332E883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F1A574-9651-4258-A546-3CB62E3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C9578D-ADF4-4DFF-BBA5-B934DBC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9477C6-5095-463C-8113-77C4C42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41AA5A-07CC-45EA-BA76-F77DDB43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7AE8D7-6930-4870-9BF9-2D5B86FB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6FD-F3DC-4972-B146-F98CD7E6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DF71-4298-4960-BE42-736158F8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18AA0C-CC09-46E5-A869-ADA1A2E8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B64C-041B-4073-AC37-774F116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3B366-4558-48CD-B365-4D4A63E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4D19-8BE4-480E-9053-34FCA277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7EB8-5CC9-48B9-8575-D531E90C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C917-EC1A-4270-B3D6-B1B05C9F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DFA2-7319-4161-8477-4CFA86CC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48AF-64FD-4E22-86C5-DD6BB122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D1429-E60F-4CC9-97D1-B4A6AF63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12DE-0A48-4D55-A6F0-5EF8320C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FFB-EBC0-46E8-BEFF-C2BFF964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F4B3F-CB32-4AF0-9300-C19FF042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5D16-D53F-4E0C-BE6C-AF0CE90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70B2-76A4-4AFF-8AE5-FB58A3BD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E887-38CE-4EF4-AC2F-2D0E6D6B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A31B-7C5F-44FA-B1B3-CC9C034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DB23F-165F-43A1-B7EC-E94A8EFD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39E1-6D73-4C29-AEEF-4F1EE522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9C6B-C99A-467C-B857-098CDB99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65A6-16FF-47E4-971D-262F5550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0AC28-6921-4E60-8552-26F4AC6A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FBE-EA1D-402C-83A1-4C13AB53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C406-FB2E-461D-98DC-8F2EF261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75A63-7399-4BBF-95D4-91414EB9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86FA-C717-4AA1-BCB3-9FB93DE3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6EAF-6BC4-4C85-8E15-9EC5973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11CC7-211F-4A48-A081-AD8C71BC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0593-6289-45DF-9953-D60FD893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F7F6C-C589-48E0-8AB8-E96979D9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C8C73-40E4-4191-80E4-F6AF23B8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9A00-8321-43C1-AED6-09C053FE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3F041-7A8E-4418-ABD2-C8F49AAC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981-46DC-4484-A7E6-85E15B4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DD8A-9668-48B6-AB75-45114726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7F13-842A-4C64-B542-058DA054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959A-CD59-4B5D-916F-E9B4EA57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55643-1FBE-4905-8085-579AB7C4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75B76-AFF3-4FD9-91D0-965A5C34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F271-1BA9-4236-977D-C7F80620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6F445-6138-4C8F-8219-1F8CF599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6240-8E8B-4C5C-87DC-D12B772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E7CFF-ED82-4D77-ACF9-F1FCF073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F9BF-324F-441D-BF88-37856026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9B3-672C-4C82-9D7A-D24B0D02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AB2EE-C881-411C-829C-6765473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EC5B-0C3E-4F9E-B7AB-CEC2C96F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7ECAA-247E-4800-B500-A2DDA4CD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65F54-39C9-4220-AAAA-80CC23D2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C851-49B5-4C86-B22D-2008B61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7E8F-2046-45E4-8312-81587330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AD50D-91B8-47AC-B385-354FAF1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8B2B3-E863-48D0-B02D-A9A1955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97B3B-AF38-48EF-8A59-06A277C5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6F415-DC29-417F-B81E-D5A7840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37D-143D-4E98-A62E-AF340551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3A9EC-F24C-4E94-B872-4649FE6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A49E6-3027-4FBE-AA7A-BF87D0B1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0CC4-749F-41BC-ADA6-320A506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B8D05-5770-45AC-A754-B529E406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E0A3-5A1A-41D3-9A98-8AFBB171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65B60-6583-4A61-8F4C-DC24C110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CF89B-DE66-4E08-AEAD-C772612B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D742-44A4-434C-A594-6AE02D52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9763-0A97-41A7-A8AC-CADA0BB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1F8BE-91A8-48F3-A91C-FB71F660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562-4992-4623-A376-6D87823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377F0-6E0A-42FA-BC8E-61848A7F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744DB-EFF6-4FD6-8CC3-4F486412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B751D-DC39-4B72-941C-5B3D0554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A2BC-4414-4CAC-B40F-F91DE67E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4317-DAF5-4836-B3B1-3A319163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FFDD-246A-4E77-B3B1-20B5A945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3B2BE-0384-4A2A-BC2A-CAA3EAF1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185BB-A32F-482B-9C33-46A3FA4D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53453-6D7F-4B62-A38A-59AC4A42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C2DB8-BE66-42C1-AB99-DF17BBFD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FF3E-51A1-4047-8774-5B8A45212E3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AE60-5D1D-4788-B300-614400254F0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41F0-8330-453E-B5B1-19CD0CFFF19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152B-06E6-49CB-9771-EDC3E0D777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63EF-BE07-46BE-BA8C-97C1C617174D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918E-DFC5-40C9-8B91-28D2B5CA60EC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483E-1918-4403-97E0-0CB7B44616C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FBE-322D-4ED5-8C79-9DED2EE6B76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BEDE-496A-494E-A1B7-09A6033B09C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258-F96D-4CC3-A021-97C0C3F4368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672-CEC2-43A0-8584-ACC98943EAC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0EF6-CFB0-47F8-BED0-0B35DC3C1D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A146-1AC5-43B0-BB72-6BBCA97F506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474A-3F21-4AEA-AB90-BF71F3981D7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861B-AAD4-4E93-A599-4B0300149D1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CFB9-0EE9-485B-8655-8DEB800BA85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FB83-6693-4AFF-BEFB-B806F99274F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115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119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123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02AC-AC23-4E1A-A6BB-C10F3B86066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70AF-BFD6-4517-B2EB-67D9219FB63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E4E9-FE21-4534-924C-8555C0642B0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213D-8686-407B-A90A-30B7E06501B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16DC-93E0-4B38-A866-B7A6848D626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AA6-C057-49CF-B24D-780BCF9D460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865F-88DA-488E-AB61-05CD3120F83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79DE-DBA6-4A46-8741-1FA439046CC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Title 1" descr=""/>
          <p:cNvPicPr/>
          <p:nvPr/>
        </p:nvPicPr>
        <p:blipFill>
          <a:blip r:embed="rId1"/>
          <a:stretch/>
        </p:blipFill>
        <p:spPr>
          <a:xfrm>
            <a:off x="2206800" y="2225520"/>
            <a:ext cx="4670280" cy="255924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3467160" y="5181120"/>
            <a:ext cx="22096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te Bierschwa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9" name="Picture 2" descr="http://www.tsuda.ac.jp/en/img/img_college_top_c.jpg"/>
          <p:cNvPicPr/>
          <p:nvPr/>
        </p:nvPicPr>
        <p:blipFill>
          <a:blip r:embed="rId2"/>
          <a:stretch/>
        </p:blipFill>
        <p:spPr>
          <a:xfrm>
            <a:off x="2743200" y="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117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hematics and Techn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how to make formulas in Exc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Picture 2" descr="http://homepage.cs.uri.edu/tutorials/csc101/pc/excel97/images/excel1.jpg"/>
          <p:cNvPicPr/>
          <p:nvPr/>
        </p:nvPicPr>
        <p:blipFill>
          <a:blip r:embed="rId1"/>
          <a:stretch/>
        </p:blipFill>
        <p:spPr>
          <a:xfrm>
            <a:off x="2514600" y="2895480"/>
            <a:ext cx="3800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ive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learned more about friendship when I wrote about it, and about my own trou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sion Mak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hardes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decision was what college to go to, and  wh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ough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bout  what job I want and colleges  taught it. It was important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0Z</dcterms:created>
  <dc:creator>ITSUser</dc:creator>
  <dc:description/>
  <dc:language>en-US</dc:language>
  <cp:lastModifiedBy>ITSUser</cp:lastModifiedBy>
  <dcterms:modified xsi:type="dcterms:W3CDTF">2010-02-10T20:46:47Z</dcterms:modified>
  <cp:revision>6</cp:revision>
  <dc:subject/>
  <dc:title>My college Planning Reflection</dc:title>
</cp:coreProperties>
</file>